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AAC-EE0F-4F74-850E-E2015C64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7AA-0141-41F5-A932-A4B7222E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878-96E2-4C89-BC27-C96F5EFD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D69-2E65-4B0D-8C6E-81ECA75A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0D82-76D8-4C36-BC20-EAFD30C7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0299-8E99-426C-9AE1-89620160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2623-73EC-43C6-A2EF-3F498822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BF05-84F0-490D-8F8F-080E39FC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5108-5578-4C37-BB8C-B3F63007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B61C-9458-44AA-87DF-A15C8D06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611F-397B-4A8D-B485-023633F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388-28EB-47F3-BE61-C62CF7A3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48F2-BEF9-43DE-B3C0-C1B2F17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631C-D27A-41AE-9140-0EC0DBDC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A8F2-12E3-4031-99D8-E2ABD8C9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AF8A-0727-4FD8-B1D5-FF511DFD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6B4D-6683-4F0D-B091-E73AB066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E0E-B362-46FD-B8B1-FE05FB8A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0BA-F5E2-4107-B303-1F119CB3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D4C-B690-4748-BA39-B48EF1FE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49E-A65F-4732-99E4-9484E6E2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FA2-29D3-4548-9490-F6D5F589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15D-6515-45D6-B79C-BCB7AD0F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46E-D4D7-4C8D-8CD8-38D05FFD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E22E-8913-4B32-8850-491E3AA102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1F5B-F1CF-4D71-9A6A-0E1B524B85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activityedu.ru/file_storage/download?entity=sxidefa7-c5ca-4bd8-9d17-72db4126de2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6432840" cy="158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ое бюджетное учреждение дополнительного образования «Центр дополнительного образования детей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Колом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500280"/>
            <a:ext cx="6400800" cy="13766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: педагог дополнительного образования Забатурина 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Шаг первы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знание педагогическим коллективом факта психологического или физического насилия среди ученико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662472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Действия со стороны классных руководителей и педагогов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стальное наблюдение за детским коллективом. Особое внимание нужно уделить группировкам, которые формируются или, возможно, уже сформировались в классе, а также наличию детей-изгоев, белых вор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комство с профилями учеников в социальных сетях, в том числе с выкладываемыми фото и видео, постами и комментариями к ним. Речь идет не о вторжении в частную жизнь, а о том, чтобы вовремя заметить проявления агрессии и защитить жер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суждение собственных выводов с учителями-предметниками, работающими в классе, и с другими педагогами, в том числе социальным педагогом и психолог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с детьми (беседы, дискуссионные встречи, воспитательные мероприятия  и д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седы с родителями уче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Шаг второ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268280"/>
            <a:ext cx="6400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бор информации проводится по следующим направлен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самого пострадавш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возможных участников издевательств над жерт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 свидетелей. К примеру, анонимный опрос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просы могут быть та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Имеет ли ребенок проблемы в коллекти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Знают ли они кого-то у кого существуют неприят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Есть ли у самого ребенка неприят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Чувствует ли ребенок страх за собственную безопаснос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Шаг трети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888120"/>
            <a:ext cx="4032360" cy="177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1320" bIns="285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лекаем родителей для борьбы с буллингом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6624720" cy="42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Работа с родителя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ьские собрания на тему травли, кибербуллинга, детских суицидов, жесткого обращения с ребенком в сем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е беседы с родителями зачинщиков и детей-изгое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ин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ации на тему стилей воспитания, семейных конфликтов, психологических особенностей детей разного возраст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использовать для профилактики буллинга в школе памятку для родителей, разместив ее на информационном стенде в фойе и на школьном сайте. Она должна отвечать на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 делать, если вашего ребенка травя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к поступить, если вам стало известно о таком случае в классе (ваш ребенок – наблюдате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 делать, если ребенок – зачин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39"/>
                </a:solidFill>
                <a:latin typeface="Arial"/>
              </a:rPr>
              <a:t>Практические рекомендации родителям и педагогам, как правильно вести себя с детьми, проявляющими агрессию в отношении сверстников: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773000"/>
            <a:ext cx="64008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койное отношение в случае незначительной аг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центирование внимания на поступках, а не на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оль над собственными негативными эмо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суждение проступ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хранение положительной репутац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монстрация модели неагрессив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ижение напряжения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 восстановительного прими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т буллинг, которому подвергся человек в школе оставляет свой отпечаток в его жизни: мешает строить отношения, пробовать себя в разных сферах деятельности, заводить друзей, не дает достижению вершин в работе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742840" y="836280"/>
            <a:ext cx="59324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Каждому ребенку нужен мир, где можно смеяться, танцевать, петь, учиться, жить в мире и быть счастливы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93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лан и алгоритм действий по профилактике моббинга буллинга в образовательных учреждениях»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линг (от английского bullying — «запугивание», «издевательство», «травля») относительно новый термин, обозначающий старое, можно сказать, вековое явление – детская  жесток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79280"/>
            <a:ext cx="8893080" cy="633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Классификация видов буллинга в образовательной среде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зическое насилие (оскорбление действ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сихологическое, включающее эмоциональное (оскорбление словом или поведением, вызывающее негативную эмоциональную реакци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Профилактика буллинг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54200" y="0"/>
            <a:ext cx="748980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Виды проявления булл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розы, шантаж, запуги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нательная порча имущ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ы мучения (ставить подножки, схватить за руки до синяко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и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е грубый, Хомский, понукающий развязный стиль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ные словесные угр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743200" y="836280"/>
            <a:ext cx="57895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профилактики буллинга – </a:t>
            </a:r>
            <a:r>
              <a:rPr b="0" i="1" lang="ru-RU" sz="2800" spc="-1" strike="noStrike">
                <a:solidFill>
                  <a:srgbClr val="e4005c"/>
                </a:solidFill>
                <a:latin typeface="Times New Roman"/>
              </a:rPr>
              <a:t>это недопущение  существования такого явления в стенах учебного заведения</a:t>
            </a:r>
            <a:r>
              <a:rPr b="0" lang="ru-RU" sz="2800" spc="-1" strike="noStrike">
                <a:solidFill>
                  <a:srgbClr val="e4005c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лан профилактики буллинга должен коснуться и кибербуллинга. Оба понятия неразрывно связаны между собой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шь после этого можно будет взяться за кропотливую и долгую работу по улучшению школьного микроклимата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Задачи и алгоритм действий по профилактике буллинг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43200" y="1413000"/>
            <a:ext cx="6221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лавная задача, которую нужно решить (и сделать это в первую очередь), – признать, что проблема травли существуе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2T12:24:35Z</dcterms:created>
  <dc:creator>Nebel</dc:creator>
  <dc:description/>
  <dc:language>en-US</dc:language>
  <cp:lastModifiedBy>Nebel</cp:lastModifiedBy>
  <dcterms:modified xsi:type="dcterms:W3CDTF">2022-03-10T02:49:44Z</dcterms:modified>
  <cp:revision>4</cp:revision>
  <dc:subject/>
  <dc:title>ГОСУДАРСТВЕННОЕ ОБРАЗОВАТЕЛЬНОЕ УЧРЕЖДЕНИЕ ВЫСШЕГО ОБРАЗОВАНИЯ МОСКОВСКОЙ ОБЛАСТИ «ГОСУДАРСТВЕННЫЙ СОЦИАЛЬНО-ГУМАНИТАРНЫЙ УНИВЕРСИТЕТ»  Факультет повышения квалификации и профессиональной переподготовки</dc:title>
</cp:coreProperties>
</file>